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A56-5D00-4D2E-9739-48FD224A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F9B-9BBD-4CB0-A0D5-7E29AE1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A92-6449-4FD3-9BAD-E81AD5BF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14D-5E9F-480E-A7D7-48D3AED0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5B4-06DB-4BCD-AD2A-04F7687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AAF-14FF-463F-BAB8-42F94CA0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FDF-2BE7-4254-8024-B4EAD7AD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FAE-A8DB-4EC7-B011-DD9B966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085-3234-47E5-8627-418AC34D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18B-F77A-4937-B13B-98F8B3A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39B-436A-4648-9C7A-2F07ACC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15A-156B-4431-8B79-D4DF7B0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ED61-C660-4314-8CB1-6CAC6D20E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quer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56272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6400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lifornian FB"/>
              </a:rPr>
              <a:t>Fluff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6095880"/>
            <a:ext cx="4724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ky Dun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query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281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1066680" y="50914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8672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u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que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7339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luff is a great treat to put on a sandwich with peanut butter or even by itself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is made only of corn-syrup, sugar, dried egg whites, and vanil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ong time ago it was used for dressing up f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is sent to 18 nations in the worl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had its own radio show called “Flufferetts” in the 193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fter Fluffs recipe was sold to another company, they came up with a Fluffer nutter, which is our present day peanut and fluff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ll owned by Durke-M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38088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Invention: Fluff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 was a resident in Summerville,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Query created Fluff in 1917 in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 was made in his very own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ventfully, he sold the product to another company and had nothing to do with it eve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30492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Inventor: Archibald Quer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6Z</dcterms:created>
  <dc:creator>install</dc:creator>
  <dc:description/>
  <dc:language>en-US</dc:language>
  <cp:lastModifiedBy>install</cp:lastModifiedBy>
  <dcterms:modified xsi:type="dcterms:W3CDTF">2010-05-12T17:35:11Z</dcterms:modified>
  <cp:revision>21</cp:revision>
  <dc:subject/>
  <dc:title>Slide 1</dc:title>
</cp:coreProperties>
</file>